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A808-B51D-4949-8D35-F8B504074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8332-C7C0-43C3-B733-82F4F4677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40E4-7450-4B91-9021-E1D4BDF05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A404-3065-4F7A-AA2F-11E0D8270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BBED-EFFC-40FF-8E84-FAB435C72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D07F-FD57-41D1-8694-59E94DE7F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AB42-B90C-4BE6-8845-E1EE0E0C1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D868-0AEE-4C55-AD8E-B073AC77E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15EC-01A7-4C3F-98CF-B235935A0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31F1-3417-49E1-93AF-2DD793E7E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8F2A-F277-403E-A46B-DF49940B6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C5DF-45FF-4B63-A30F-7B944EDC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F26FA-8F73-4FB6-8E00-02ABF5DE98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19720" cy="37209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556160" y="-396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0"/>
            <a:ext cx="47242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95680" cy="3733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495680" y="0"/>
            <a:ext cx="4648320" cy="37209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3733920"/>
            <a:ext cx="4495680" cy="3124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4495680" y="3733920"/>
            <a:ext cx="46483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7209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733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0" y="3733920"/>
            <a:ext cx="4572000" cy="3124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4572000" y="3733920"/>
            <a:ext cx="45720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4832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648320" y="0"/>
            <a:ext cx="4495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4832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648320" y="0"/>
            <a:ext cx="4495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31T22:52:41Z</dcterms:created>
  <dc:creator>Ken Belanger</dc:creator>
  <dc:description/>
  <dc:language>en-US</dc:language>
  <cp:lastModifiedBy>Ken Belanger</cp:lastModifiedBy>
  <dcterms:modified xsi:type="dcterms:W3CDTF">2008-02-01T13:33:00Z</dcterms:modified>
  <cp:revision>2</cp:revision>
  <dc:subject/>
  <dc:title>Slide 1</dc:title>
</cp:coreProperties>
</file>